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D9E2EB-4E08-4ABD-8527-A71AE669C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4648AE-11A0-4E0F-9E78-FCF7378D56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19B99A-5B75-482F-9E53-5C2A17878A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FBA21B-417A-40FD-92AC-31DF1C74D0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42471F-DC16-49C8-8DC5-FB9257E0CE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23C-AE7F-4013-8579-31AB41C7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1F8-9A77-45B0-8620-AB0E325C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D41-2666-4E4C-887C-513AA435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031-8A2F-4177-910E-D9AD6D6D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1A1-F8A7-4B58-8626-ACEFDE06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560-0470-468C-9DCA-B3902D0C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DDC-B330-445D-AD57-6CB8D67D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54F-D786-483D-B363-85D1B8F2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29F-B90A-4028-8D20-1B0AA519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162-52ED-42EC-B535-68A02FF3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ECB-5601-43CE-82B2-8E1CC1D2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88F-4F33-43CB-BDE3-D7E0C68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0EAA05-CA98-49BA-A1F4-A1B3FA1F0B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正方形/長方形 2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solidFill>
            <a:srgbClr val="f5f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正方形/長方形 1"/>
          <p:cNvSpPr/>
          <p:nvPr/>
        </p:nvSpPr>
        <p:spPr>
          <a:xfrm>
            <a:off x="0" y="0"/>
            <a:ext cx="9144000" cy="11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54000"/>
            <a:ext cx="7772400" cy="2457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262699"/>
                </a:solidFill>
                <a:latin typeface="HGP創英ﾌﾟﾚｾﾞﾝｽEB"/>
                <a:ea typeface="HGP創英ﾌﾟﾚｾﾞﾝｽEB"/>
              </a:rPr>
              <a:t>TVML</a:t>
            </a:r>
            <a:br>
              <a:rPr sz="6000"/>
            </a:br>
            <a:r>
              <a:rPr b="0" lang="ja-JP" sz="6000" spc="-1" strike="noStrike">
                <a:solidFill>
                  <a:srgbClr val="262699"/>
                </a:solidFill>
                <a:latin typeface="HGP創英ﾌﾟﾚｾﾞﾝｽEB"/>
                <a:ea typeface="HGP創英ﾌﾟﾚｾﾞﾝｽEB"/>
              </a:rPr>
              <a:t>チュートリア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298520" y="43369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,  201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林正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とカメ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8" name="直線矢印コネクタ 4"/>
          <p:cNvCxnSpPr/>
          <p:nvPr/>
        </p:nvCxnSpPr>
        <p:spPr>
          <a:xfrm>
            <a:off x="4269960" y="2593440"/>
            <a:ext cx="1080" cy="333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39" name="直線矢印コネクタ 6"/>
          <p:cNvCxnSpPr/>
          <p:nvPr/>
        </p:nvCxnSpPr>
        <p:spPr>
          <a:xfrm flipH="1">
            <a:off x="1995120" y="2593440"/>
            <a:ext cx="2275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40" name="正方形/長方形 16"/>
          <p:cNvSpPr/>
          <p:nvPr/>
        </p:nvSpPr>
        <p:spPr>
          <a:xfrm>
            <a:off x="1542600" y="230364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正方形/長方形 22"/>
          <p:cNvSpPr/>
          <p:nvPr/>
        </p:nvSpPr>
        <p:spPr>
          <a:xfrm>
            <a:off x="4335120" y="552276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5126400" y="17478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キャラは基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z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軸の方を向いてい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809960" y="4394160"/>
            <a:ext cx="37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カメラ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80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度回転させてキャラを捉えてい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二等辺三角形 7"/>
          <p:cNvSpPr/>
          <p:nvPr/>
        </p:nvSpPr>
        <p:spPr>
          <a:xfrm rot="10800000">
            <a:off x="4168800" y="2801880"/>
            <a:ext cx="203040" cy="223920"/>
          </a:xfrm>
          <a:prstGeom prst="triangle">
            <a:avLst>
              <a:gd name="adj" fmla="val 50000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円/楕円 5"/>
          <p:cNvSpPr/>
          <p:nvPr/>
        </p:nvSpPr>
        <p:spPr>
          <a:xfrm>
            <a:off x="4022640" y="2379600"/>
            <a:ext cx="493920" cy="493920"/>
          </a:xfrm>
          <a:prstGeom prst="ellipse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6" name="グループ化 11"/>
          <p:cNvGrpSpPr/>
          <p:nvPr/>
        </p:nvGrpSpPr>
        <p:grpSpPr>
          <a:xfrm>
            <a:off x="4098960" y="4560480"/>
            <a:ext cx="342720" cy="574920"/>
            <a:chOff x="4098960" y="4560480"/>
            <a:chExt cx="342720" cy="574920"/>
          </a:xfrm>
        </p:grpSpPr>
        <p:sp>
          <p:nvSpPr>
            <p:cNvPr id="147" name="正方形/長方形 9"/>
            <p:cNvSpPr/>
            <p:nvPr/>
          </p:nvSpPr>
          <p:spPr>
            <a:xfrm>
              <a:off x="4098960" y="4753440"/>
              <a:ext cx="342720" cy="38196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台形 10"/>
            <p:cNvSpPr/>
            <p:nvPr/>
          </p:nvSpPr>
          <p:spPr>
            <a:xfrm rot="10800000">
              <a:off x="4133880" y="4560480"/>
              <a:ext cx="272880" cy="191880"/>
            </a:xfrm>
            <a:custGeom>
              <a:avLst/>
              <a:gdLst/>
              <a:ahLst/>
              <a:rect l="l" t="t" r="r" b="b"/>
              <a:pathLst>
                <a:path w="328413" h="230922">
                  <a:moveTo>
                    <a:pt x="0" y="230922"/>
                  </a:moveTo>
                  <a:lnTo>
                    <a:pt x="57731" y="0"/>
                  </a:lnTo>
                  <a:lnTo>
                    <a:pt x="270683" y="0"/>
                  </a:lnTo>
                  <a:lnTo>
                    <a:pt x="328413" y="230922"/>
                  </a:lnTo>
                  <a:lnTo>
                    <a:pt x="0" y="230922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9" name="直線コネクタ 18"/>
          <p:cNvSpPr/>
          <p:nvPr/>
        </p:nvSpPr>
        <p:spPr>
          <a:xfrm flipH="1" flipV="1">
            <a:off x="3411360" y="2873520"/>
            <a:ext cx="757440" cy="15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直線コネクタ 36"/>
          <p:cNvSpPr/>
          <p:nvPr/>
        </p:nvSpPr>
        <p:spPr>
          <a:xfrm flipV="1">
            <a:off x="4441680" y="2949120"/>
            <a:ext cx="625680" cy="14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2138400" y="4471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上面図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744480" y="2425680"/>
            <a:ext cx="746712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openmodel( model=maik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, filename="Characters\maiko\maiko"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casting( name=A, model=maiko 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setvoice(name=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voicetype=VoiceSommelier:voice07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position(name=A, x=0.0, y=0.0, z=0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visible( name=A, switch=on 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照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766880" y="3751200"/>
            <a:ext cx="52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:point(name=LP, x=0, y=1, z=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正方形/長方形 1"/>
          <p:cNvSpPr/>
          <p:nvPr/>
        </p:nvSpPr>
        <p:spPr>
          <a:xfrm>
            <a:off x="1766160" y="4430880"/>
            <a:ext cx="52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:point(name=LP, x=0, y=1, z=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正方形/長方形 3"/>
          <p:cNvSpPr/>
          <p:nvPr/>
        </p:nvSpPr>
        <p:spPr>
          <a:xfrm>
            <a:off x="1776600" y="5154480"/>
            <a:ext cx="552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:spot(name=LS, x=0.2, y=1, z=0.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vx=-1, vy=-1, vz=-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大かっこ 4"/>
          <p:cNvSpPr/>
          <p:nvPr/>
        </p:nvSpPr>
        <p:spPr>
          <a:xfrm>
            <a:off x="1590840" y="3751200"/>
            <a:ext cx="5746680" cy="1941480"/>
          </a:xfrm>
          <a:prstGeom prst="bracketPair">
            <a:avLst>
              <a:gd name="adj" fmla="val 10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278720" y="2228760"/>
            <a:ext cx="654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:ambient(name=LA, r=1.0, g=1.0, b=1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セッ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45160" y="2773440"/>
            <a:ext cx="9083880" cy="15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:openmodel( name=S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ilename="Setprops/RankingSet_cyber/cyberspace"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:position(name=Set, x=0, y=0, z=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課題１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401840" y="2401920"/>
            <a:ext cx="725328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カメラを動かしてみよ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複数カメラを設置して切り替えよ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複数キャラクターを用意しよ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プロップ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469800" y="2773440"/>
            <a:ext cx="8093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: openmodel(name=block_cyber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ilename=Setprops/RankingSet_cyber/block_cybe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: position( name=block_cyber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=1.3, y=1.0, z=0.0, scale=1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プロップ（イメージプレート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62800" y="2751120"/>
            <a:ext cx="889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: openimageplate(name=P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ilename="Images/hadakadenkyu", hsize=1.0, vsize=1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: position( name=Pic, x=-1.3, y=1.0, z=-3.0, scale=1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ムービ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437040" y="2541600"/>
            <a:ext cx="873936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vie:open(name=MOVIEDATA_0, filename="Movies/SalvadorDali"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:openmovieplate(name=MOVIEPLATE_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oviename=MOVIEDATA_0, hsize=2.0, vsize=1.5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:position(name=MOVIEPLATE_0, x=0, y=1.0, z=-3.0, scale=2.7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vie:play(name=MOVIEDATA_0, wait=n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:visible(name=MOVIEPLATE_0, switch=o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it(time=60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:visible( name= MOVIEPLATE_0, switch=off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ドローイン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587520" y="2087640"/>
            <a:ext cx="803844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wing: openbase ( name=BASE, x=20%, y=20%, layer=99, color=000000 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wing: settext ( name=TEXT1, parent=BA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ext="&lt;font r='1.0' g='1.0' b='1.0' size='30%'&gt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border r='1.0' g='0.0' b='0.0' width='2'&gt;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アートですね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/border&gt;&lt;/font&gt;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x=0%, y=0%, refmode=center, height=50%, width=5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vertext=clip, basecolor=transparent 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wing: setimage(name=PICT1, parent=BASE, filename="./demo/book.jpg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efmode=center, width=50%,height=50%, x=0%, y=0%, aspect=fi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wing: display ( name=BASE, switch=on 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it ( time=5.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wing: display ( name=BASE, switch=off 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課題２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952560" y="2212920"/>
            <a:ext cx="743724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オブジェクトを表示して移動させよ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画像を表示して移動させよ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in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テキストを表示して移動させよ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表示したテキストの色を変えよ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正方形/長方形 5"/>
          <p:cNvSpPr/>
          <p:nvPr/>
        </p:nvSpPr>
        <p:spPr>
          <a:xfrm>
            <a:off x="3193560" y="5270400"/>
            <a:ext cx="277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TVML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はイベント駆動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・上から順に実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・プログラミング言語ではない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719520" y="3049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53"/>
          <p:cNvSpPr/>
          <p:nvPr/>
        </p:nvSpPr>
        <p:spPr>
          <a:xfrm>
            <a:off x="1527120" y="1776240"/>
            <a:ext cx="5832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平成明朝"/>
              </a:rPr>
              <a:t>CG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平成明朝"/>
              </a:rPr>
              <a:t>キャラク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平成明朝"/>
              </a:rPr>
              <a:t>Bob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平成明朝"/>
              </a:rPr>
              <a:t>にカメラをクローズアップし「こんにちは」と言わせ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54"/>
          <p:cNvSpPr/>
          <p:nvPr/>
        </p:nvSpPr>
        <p:spPr>
          <a:xfrm>
            <a:off x="372960" y="3232080"/>
            <a:ext cx="84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ra: closeup ( target=Bob 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: talk ( name=Bob, text 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こんにちは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山形 1"/>
          <p:cNvSpPr/>
          <p:nvPr/>
        </p:nvSpPr>
        <p:spPr>
          <a:xfrm>
            <a:off x="2419200" y="5451480"/>
            <a:ext cx="181080" cy="146160"/>
          </a:xfrm>
          <a:custGeom>
            <a:avLst/>
            <a:gdLst>
              <a:gd name="textAreaLeft" fmla="*/ 0 w 181080"/>
              <a:gd name="textAreaRight" fmla="*/ 181440 w 181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95" y="0"/>
                </a:lnTo>
                <a:lnTo>
                  <a:pt x="21600" y="10800"/>
                </a:lnTo>
                <a:lnTo>
                  <a:pt x="4795" y="21600"/>
                </a:lnTo>
                <a:lnTo>
                  <a:pt x="0" y="21600"/>
                </a:lnTo>
                <a:lnTo>
                  <a:pt x="16805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しゃべ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488160" y="2773440"/>
            <a:ext cx="662328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talk( name=A, text="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マイコで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 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字幕指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talk( name=A, text="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マイコで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aption="maiko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で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アテレ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464760" y="2773440"/>
            <a:ext cx="815112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talkfile( name=A, filename=Sounds/konafun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aption="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こんな風に録音した音声でもしゃべれま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 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歩き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453960" y="2773440"/>
            <a:ext cx="5776920" cy="26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walk( name=A, x=1.0, z=0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歩数指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walk( name=A, step=3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立つ、座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39920" y="2773440"/>
            <a:ext cx="4024080" cy="15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sit( name=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(time=1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stand( name=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ター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451800" y="2773440"/>
            <a:ext cx="47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turn( name=A, d=-9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おじ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439920" y="2773440"/>
            <a:ext cx="37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bow( name=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対象物を見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441000" y="277344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look(name=A, target=camera 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正方形/長方形 1"/>
          <p:cNvSpPr/>
          <p:nvPr/>
        </p:nvSpPr>
        <p:spPr>
          <a:xfrm>
            <a:off x="1486080" y="4307040"/>
            <a:ext cx="659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mera:move(name=CamA, x=1.0, y=1.0, z=2, ry=18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mera:move(name=CamA, x=0.0, y=3.0, z=2, ry=180, rx=4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mera:move(name=CamA, x=0.0, y=1.0, z=2, ry=180, rx=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大かっこ 2"/>
          <p:cNvSpPr/>
          <p:nvPr/>
        </p:nvSpPr>
        <p:spPr>
          <a:xfrm>
            <a:off x="1190520" y="4307040"/>
            <a:ext cx="6894720" cy="1179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指定方向を見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50000" y="2773440"/>
            <a:ext cx="59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gaze( name=A, rx=-30, ry=7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ジャンプ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466560" y="2773440"/>
            <a:ext cx="68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jump( name=A, x=0.0, z=0.0, d=0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震え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450720" y="2773440"/>
            <a:ext cx="5727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shake( name=A, switch=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(time=3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shake( name=A, switch=off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38080" y="3643200"/>
            <a:ext cx="15177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acter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mera       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837720" y="3179880"/>
            <a:ext cx="685800" cy="4572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Line 6"/>
          <p:cNvSpPr/>
          <p:nvPr/>
        </p:nvSpPr>
        <p:spPr>
          <a:xfrm>
            <a:off x="1523880" y="3179880"/>
            <a:ext cx="1752840" cy="4572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132600" y="3147840"/>
            <a:ext cx="228600" cy="9907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533520" y="1738440"/>
            <a:ext cx="1662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2400480" y="1754280"/>
            <a:ext cx="7315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3352680" y="1747800"/>
            <a:ext cx="503568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64400" y="11635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ＭＳ ゴシック"/>
              </a:rPr>
              <a:t>character: talk ( name = Bob,  text = "Hello" 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853200" y="27097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イベントタイプ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3251160" y="269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コマン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5230080" y="269064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パラメータ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9" name="直線矢印コネクタ 2"/>
          <p:cNvCxnSpPr>
            <a:stCxn id="66" idx="0"/>
          </p:cNvCxnSpPr>
          <p:nvPr/>
        </p:nvCxnSpPr>
        <p:spPr>
          <a:xfrm flipH="1" flipV="1">
            <a:off x="1523160" y="1897920"/>
            <a:ext cx="221400" cy="81180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lg" type="triangle" w="lg"/>
          </a:ln>
        </p:spPr>
      </p:cxnSp>
      <p:cxnSp>
        <p:nvCxnSpPr>
          <p:cNvPr id="70" name="直線矢印コネクタ 19"/>
          <p:cNvCxnSpPr/>
          <p:nvPr/>
        </p:nvCxnSpPr>
        <p:spPr>
          <a:xfrm flipH="1" flipV="1">
            <a:off x="2894760" y="1897920"/>
            <a:ext cx="570600" cy="82476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lg" type="triangle" w="lg"/>
          </a:ln>
        </p:spPr>
      </p:cxnSp>
      <p:cxnSp>
        <p:nvCxnSpPr>
          <p:cNvPr id="71" name="直線矢印コネクタ 20"/>
          <p:cNvCxnSpPr/>
          <p:nvPr/>
        </p:nvCxnSpPr>
        <p:spPr>
          <a:xfrm flipH="1" flipV="1">
            <a:off x="5928480" y="1897920"/>
            <a:ext cx="102600" cy="81180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lg" type="triangle" w="lg"/>
          </a:ln>
        </p:spPr>
      </p:cxnSp>
      <p:sp>
        <p:nvSpPr>
          <p:cNvPr id="72" name="正方形/長方形 1"/>
          <p:cNvSpPr/>
          <p:nvPr/>
        </p:nvSpPr>
        <p:spPr>
          <a:xfrm>
            <a:off x="4989600" y="4240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ＭＳ ゴシック"/>
                <a:ea typeface="ＭＳ ゴシック"/>
              </a:rPr>
              <a:t>コマンド実行に必要な情報を記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イベント書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246400" y="3637080"/>
            <a:ext cx="110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ie   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genv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9800" y="5803920"/>
            <a:ext cx="7122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イベントの無いコマンドのみの「ダイレクトコマンド」がいくつかあ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( time=3.0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setcaption ( border=on 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口を開け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462240" y="2773440"/>
            <a:ext cx="6511320" cy="15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openmouth( name=A, switch=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(time=1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openmouth( name=A, switch=off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表情を変え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453240" y="2773440"/>
            <a:ext cx="6802560" cy="26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expression( name=A, type=sa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(time=1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expression( name=A, type=happy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(time=1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expression( name=A, type=neutra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アクションを再生す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57560" y="2773440"/>
            <a:ext cx="6099840" cy="15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action(name=A, action=hop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action(name=A, action=shock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action(name=A, action=by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ポー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800280" y="2130480"/>
            <a:ext cx="647172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:definepose( name=A, pose=banza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joint=RightUpperArm, rx=-130, ry=2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:definepose( name=A, pose=banza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joint=LeftUpperArm, rx=-130, ry=-2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:definepose( name=A, pose=banza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joint=Chest, rx=-3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:definepose( name=A, pose=upp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joint=Jaw, rx=3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:pose( name=A, pose=banzai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it(time=1.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:pose( name=A, pose=defaul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キャラクタを動かす：　移動させ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469440" y="2773440"/>
            <a:ext cx="77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 move(name=A, x=1.0, y=1.0, z=0.0, ry=45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音を鳴らす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473400" y="2773440"/>
            <a:ext cx="7654320" cy="15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open( name=bgm, filename="Sounds/news"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play( name=bg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音声ミキサー（レベル変え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962280" y="2317680"/>
            <a:ext cx="664092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 open( name=bg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ilename="Sounds/Internationale-ru"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 level( name=bgm, level=0.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 play( name=bg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(time=5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 level( name=bgm, level=0.5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(time=5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 level( name=bgm, level=1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音声ミキサー（フェード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765000" y="2584440"/>
            <a:ext cx="66409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 open( name=bg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ilename="Sounds/Internationale-ru"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 play( name=bg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(time=8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 fade( name=bgm, level=0.5 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(time=8.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: fade( name=bgm, level=0.0 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マンド同時実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643680" y="2773440"/>
            <a:ext cx="619128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t: bow(name=A, wait=no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t: bow(name=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その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bow( name=A, wait=no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:talk( name=A, text="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こんにち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 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課題３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401840" y="2401920"/>
            <a:ext cx="743724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キャラクターをカメラ目線のまま歩かせ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ジャンプに効果音をつけよ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8680" y="1835280"/>
            <a:ext cx="85723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VML</a:t>
            </a: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言語仕様</a:t>
            </a:r>
            <a:r>
              <a:rPr b="1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ersion 3.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jis76df.sakura.ne.jp/t2vlab/spec/tvmlspec31/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オフィシャル版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言語仕様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485280" y="1569960"/>
            <a:ext cx="62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ゴシック"/>
              </a:rPr>
              <a:t>camera: ( name = CamA,  x=5.0, vangle=60.0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諸規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074600" y="2871720"/>
            <a:ext cx="69310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は順不同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を省略するとデフォルト値が採用され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必須パラメータは必ず指定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コメントアウト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また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 */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が使え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on Unity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座標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3783600" y="1216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左手系で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3" name="直線矢印コネクタ 4"/>
          <p:cNvCxnSpPr/>
          <p:nvPr/>
        </p:nvCxnSpPr>
        <p:spPr>
          <a:xfrm flipV="1">
            <a:off x="3728520" y="2339640"/>
            <a:ext cx="1080" cy="22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4" name="直線矢印コネクタ 6"/>
          <p:cNvCxnSpPr/>
          <p:nvPr/>
        </p:nvCxnSpPr>
        <p:spPr>
          <a:xfrm flipH="1">
            <a:off x="1455480" y="4605120"/>
            <a:ext cx="2273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5" name="直線矢印コネクタ 8"/>
          <p:cNvCxnSpPr/>
          <p:nvPr/>
        </p:nvCxnSpPr>
        <p:spPr>
          <a:xfrm flipH="1">
            <a:off x="2712600" y="4605480"/>
            <a:ext cx="101664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6" name="正方形/長方形 16"/>
          <p:cNvSpPr/>
          <p:nvPr/>
        </p:nvSpPr>
        <p:spPr>
          <a:xfrm>
            <a:off x="1001880" y="431496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正方形/長方形 21"/>
          <p:cNvSpPr/>
          <p:nvPr/>
        </p:nvSpPr>
        <p:spPr>
          <a:xfrm>
            <a:off x="3338640" y="1898640"/>
            <a:ext cx="3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正方形/長方形 22"/>
          <p:cNvSpPr/>
          <p:nvPr/>
        </p:nvSpPr>
        <p:spPr>
          <a:xfrm>
            <a:off x="2347560" y="512460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9" name="グループ化 2"/>
          <p:cNvGrpSpPr/>
          <p:nvPr/>
        </p:nvGrpSpPr>
        <p:grpSpPr>
          <a:xfrm>
            <a:off x="7802640" y="4700520"/>
            <a:ext cx="1339200" cy="1841400"/>
            <a:chOff x="7802640" y="4700520"/>
            <a:chExt cx="1339200" cy="1841400"/>
          </a:xfrm>
        </p:grpSpPr>
        <p:grpSp>
          <p:nvGrpSpPr>
            <p:cNvPr id="90" name="グループ化 15"/>
            <p:cNvGrpSpPr/>
            <p:nvPr/>
          </p:nvGrpSpPr>
          <p:grpSpPr>
            <a:xfrm>
              <a:off x="7802640" y="5100480"/>
              <a:ext cx="1057320" cy="1441440"/>
              <a:chOff x="7802640" y="5100480"/>
              <a:chExt cx="1057320" cy="1441440"/>
            </a:xfrm>
          </p:grpSpPr>
          <p:sp>
            <p:nvSpPr>
              <p:cNvPr id="91" name="フリーフォーム 12"/>
              <p:cNvSpPr/>
              <p:nvPr/>
            </p:nvSpPr>
            <p:spPr>
              <a:xfrm>
                <a:off x="7802640" y="5100480"/>
                <a:ext cx="1057320" cy="1441440"/>
              </a:xfrm>
              <a:custGeom>
                <a:avLst/>
                <a:gdLst/>
                <a:ahLst/>
                <a:rect l="l" t="t" r="r" b="b"/>
                <a:pathLst>
                  <a:path w="3302919" h="4511064">
                    <a:moveTo>
                      <a:pt x="0" y="3831375"/>
                    </a:moveTo>
                    <a:cubicBezTo>
                      <a:pt x="108857" y="3743080"/>
                      <a:pt x="217714" y="3654785"/>
                      <a:pt x="261257" y="3439490"/>
                    </a:cubicBezTo>
                    <a:cubicBezTo>
                      <a:pt x="304800" y="3224195"/>
                      <a:pt x="227390" y="2718613"/>
                      <a:pt x="261257" y="2539604"/>
                    </a:cubicBezTo>
                    <a:cubicBezTo>
                      <a:pt x="295124" y="2360595"/>
                      <a:pt x="411238" y="2425909"/>
                      <a:pt x="464457" y="2365433"/>
                    </a:cubicBezTo>
                    <a:cubicBezTo>
                      <a:pt x="517676" y="2304957"/>
                      <a:pt x="524933" y="2217871"/>
                      <a:pt x="580571" y="2176747"/>
                    </a:cubicBezTo>
                    <a:cubicBezTo>
                      <a:pt x="636209" y="2135623"/>
                      <a:pt x="754742" y="2147719"/>
                      <a:pt x="798285" y="2118690"/>
                    </a:cubicBezTo>
                    <a:cubicBezTo>
                      <a:pt x="841828" y="2089661"/>
                      <a:pt x="793447" y="2041280"/>
                      <a:pt x="841828" y="2002575"/>
                    </a:cubicBezTo>
                    <a:cubicBezTo>
                      <a:pt x="890209" y="1963870"/>
                      <a:pt x="1032933" y="2050956"/>
                      <a:pt x="1088571" y="1886461"/>
                    </a:cubicBezTo>
                    <a:cubicBezTo>
                      <a:pt x="1144209" y="1721966"/>
                      <a:pt x="1136951" y="1322823"/>
                      <a:pt x="1175656" y="1015604"/>
                    </a:cubicBezTo>
                    <a:cubicBezTo>
                      <a:pt x="1214361" y="708385"/>
                      <a:pt x="1255485" y="176195"/>
                      <a:pt x="1320799" y="43147"/>
                    </a:cubicBezTo>
                    <a:cubicBezTo>
                      <a:pt x="1386113" y="-89901"/>
                      <a:pt x="1519160" y="118136"/>
                      <a:pt x="1567541" y="217317"/>
                    </a:cubicBezTo>
                    <a:cubicBezTo>
                      <a:pt x="1615922" y="316498"/>
                      <a:pt x="1608666" y="454384"/>
                      <a:pt x="1611085" y="638232"/>
                    </a:cubicBezTo>
                    <a:cubicBezTo>
                      <a:pt x="1613504" y="822080"/>
                      <a:pt x="1589314" y="1061566"/>
                      <a:pt x="1582057" y="1320404"/>
                    </a:cubicBezTo>
                    <a:cubicBezTo>
                      <a:pt x="1574800" y="1579242"/>
                      <a:pt x="1560286" y="1961452"/>
                      <a:pt x="1567543" y="2191261"/>
                    </a:cubicBezTo>
                    <a:cubicBezTo>
                      <a:pt x="1574800" y="2421070"/>
                      <a:pt x="1553029" y="2575890"/>
                      <a:pt x="1625600" y="2699261"/>
                    </a:cubicBezTo>
                    <a:cubicBezTo>
                      <a:pt x="1698171" y="2822632"/>
                      <a:pt x="1866386" y="2915280"/>
                      <a:pt x="2002971" y="2931489"/>
                    </a:cubicBezTo>
                    <a:cubicBezTo>
                      <a:pt x="2139556" y="2947698"/>
                      <a:pt x="2326251" y="2838119"/>
                      <a:pt x="2445113" y="2796518"/>
                    </a:cubicBezTo>
                    <a:cubicBezTo>
                      <a:pt x="2563975" y="2754917"/>
                      <a:pt x="2637336" y="2708814"/>
                      <a:pt x="2716144" y="2681885"/>
                    </a:cubicBezTo>
                    <a:cubicBezTo>
                      <a:pt x="2794952" y="2654956"/>
                      <a:pt x="2855249" y="2628408"/>
                      <a:pt x="2917963" y="2634941"/>
                    </a:cubicBezTo>
                    <a:cubicBezTo>
                      <a:pt x="2980677" y="2641474"/>
                      <a:pt x="3117493" y="2659793"/>
                      <a:pt x="3179713" y="2707655"/>
                    </a:cubicBezTo>
                    <a:cubicBezTo>
                      <a:pt x="3241933" y="2755517"/>
                      <a:pt x="3335947" y="2857949"/>
                      <a:pt x="3291286" y="2922112"/>
                    </a:cubicBezTo>
                    <a:cubicBezTo>
                      <a:pt x="3246625" y="2986275"/>
                      <a:pt x="3063602" y="3010663"/>
                      <a:pt x="2911745" y="3092630"/>
                    </a:cubicBezTo>
                    <a:cubicBezTo>
                      <a:pt x="2759888" y="3174597"/>
                      <a:pt x="2535359" y="3270684"/>
                      <a:pt x="2380145" y="3413917"/>
                    </a:cubicBezTo>
                    <a:cubicBezTo>
                      <a:pt x="2224931" y="3557151"/>
                      <a:pt x="2130407" y="3824398"/>
                      <a:pt x="1980459" y="3952031"/>
                    </a:cubicBezTo>
                    <a:cubicBezTo>
                      <a:pt x="1830511" y="4079664"/>
                      <a:pt x="1624267" y="4124837"/>
                      <a:pt x="1480457" y="4179718"/>
                    </a:cubicBezTo>
                    <a:cubicBezTo>
                      <a:pt x="1336647" y="4234599"/>
                      <a:pt x="1207105" y="4228099"/>
                      <a:pt x="1117600" y="4281318"/>
                    </a:cubicBezTo>
                    <a:cubicBezTo>
                      <a:pt x="1028095" y="4334537"/>
                      <a:pt x="970038" y="4465167"/>
                      <a:pt x="943428" y="4499033"/>
                    </a:cubicBezTo>
                    <a:cubicBezTo>
                      <a:pt x="916818" y="4532899"/>
                      <a:pt x="957942" y="4484518"/>
                      <a:pt x="957942" y="4484518"/>
                    </a:cubicBezTo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フリーフォーム 13"/>
              <p:cNvSpPr/>
              <p:nvPr/>
            </p:nvSpPr>
            <p:spPr>
              <a:xfrm>
                <a:off x="8299800" y="5558760"/>
                <a:ext cx="315720" cy="357840"/>
              </a:xfrm>
              <a:custGeom>
                <a:avLst/>
                <a:gdLst/>
                <a:ahLst/>
                <a:rect l="l" t="t" r="r" b="b"/>
                <a:pathLst>
                  <a:path w="986972" h="1119793">
                    <a:moveTo>
                      <a:pt x="0" y="553736"/>
                    </a:moveTo>
                    <a:lnTo>
                      <a:pt x="420914" y="306993"/>
                    </a:lnTo>
                    <a:cubicBezTo>
                      <a:pt x="532190" y="239260"/>
                      <a:pt x="573314" y="198136"/>
                      <a:pt x="667657" y="147336"/>
                    </a:cubicBezTo>
                    <a:cubicBezTo>
                      <a:pt x="762000" y="96536"/>
                      <a:pt x="933753" y="-17159"/>
                      <a:pt x="986972" y="2193"/>
                    </a:cubicBezTo>
                    <a:cubicBezTo>
                      <a:pt x="1040191" y="21545"/>
                      <a:pt x="1040191" y="171526"/>
                      <a:pt x="986972" y="263450"/>
                    </a:cubicBezTo>
                    <a:cubicBezTo>
                      <a:pt x="933753" y="355374"/>
                      <a:pt x="788609" y="452136"/>
                      <a:pt x="667657" y="553736"/>
                    </a:cubicBezTo>
                    <a:cubicBezTo>
                      <a:pt x="546705" y="655336"/>
                      <a:pt x="365276" y="778708"/>
                      <a:pt x="261257" y="873051"/>
                    </a:cubicBezTo>
                    <a:cubicBezTo>
                      <a:pt x="157238" y="967394"/>
                      <a:pt x="85876" y="1021822"/>
                      <a:pt x="43543" y="1119793"/>
                    </a:cubicBezTo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3" name="正方形/長方形 23"/>
            <p:cNvSpPr/>
            <p:nvPr/>
          </p:nvSpPr>
          <p:spPr>
            <a:xfrm>
              <a:off x="8862120" y="58219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正方形/長方形 24"/>
            <p:cNvSpPr/>
            <p:nvPr/>
          </p:nvSpPr>
          <p:spPr>
            <a:xfrm>
              <a:off x="8149680" y="4700520"/>
              <a:ext cx="28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正方形/長方形 25"/>
            <p:cNvSpPr/>
            <p:nvPr/>
          </p:nvSpPr>
          <p:spPr>
            <a:xfrm>
              <a:off x="8619120" y="5308920"/>
              <a:ext cx="2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96" name="直線矢印コネクタ 30"/>
          <p:cNvCxnSpPr/>
          <p:nvPr/>
        </p:nvCxnSpPr>
        <p:spPr>
          <a:xfrm flipV="1">
            <a:off x="6310080" y="5303520"/>
            <a:ext cx="1080" cy="10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7" name="直線矢印コネクタ 31"/>
          <p:cNvCxnSpPr/>
          <p:nvPr/>
        </p:nvCxnSpPr>
        <p:spPr>
          <a:xfrm>
            <a:off x="6310440" y="637992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8" name="直線矢印コネクタ 32"/>
          <p:cNvCxnSpPr/>
          <p:nvPr/>
        </p:nvCxnSpPr>
        <p:spPr>
          <a:xfrm flipV="1">
            <a:off x="6310440" y="5793840"/>
            <a:ext cx="753120" cy="5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99" name="正方形/長方形 33"/>
          <p:cNvSpPr/>
          <p:nvPr/>
        </p:nvSpPr>
        <p:spPr>
          <a:xfrm>
            <a:off x="7382520" y="6299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正方形/長方形 34"/>
          <p:cNvSpPr/>
          <p:nvPr/>
        </p:nvSpPr>
        <p:spPr>
          <a:xfrm>
            <a:off x="6106320" y="50292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正方形/長方形 35"/>
          <p:cNvSpPr/>
          <p:nvPr/>
        </p:nvSpPr>
        <p:spPr>
          <a:xfrm>
            <a:off x="7106400" y="556272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363680" y="58960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こう考えた方が分かりやすい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ｚが手前向き、ｘが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3" name="直線矢印コネクタ 7169"/>
          <p:cNvCxnSpPr/>
          <p:nvPr/>
        </p:nvCxnSpPr>
        <p:spPr>
          <a:xfrm>
            <a:off x="4330800" y="4637160"/>
            <a:ext cx="1534320" cy="792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104" name="Rectangle 13"/>
          <p:cNvSpPr/>
          <p:nvPr/>
        </p:nvSpPr>
        <p:spPr>
          <a:xfrm>
            <a:off x="4969080" y="4637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同じ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グループ化 1"/>
          <p:cNvGrpSpPr/>
          <p:nvPr/>
        </p:nvGrpSpPr>
        <p:grpSpPr>
          <a:xfrm>
            <a:off x="6080040" y="2495520"/>
            <a:ext cx="1416960" cy="1954080"/>
            <a:chOff x="6080040" y="2495520"/>
            <a:chExt cx="1416960" cy="1954080"/>
          </a:xfrm>
        </p:grpSpPr>
        <p:sp>
          <p:nvSpPr>
            <p:cNvPr id="106" name="フリーフォーム 12"/>
            <p:cNvSpPr/>
            <p:nvPr/>
          </p:nvSpPr>
          <p:spPr>
            <a:xfrm flipH="1">
              <a:off x="6080040" y="2495520"/>
              <a:ext cx="1403280" cy="1954080"/>
            </a:xfrm>
            <a:custGeom>
              <a:avLst/>
              <a:gdLst/>
              <a:ahLst/>
              <a:rect l="l" t="t" r="r" b="b"/>
              <a:pathLst>
                <a:path w="3453051" h="4723687">
                  <a:moveTo>
                    <a:pt x="373698" y="4723687"/>
                  </a:moveTo>
                  <a:cubicBezTo>
                    <a:pt x="482555" y="4635392"/>
                    <a:pt x="484011" y="4402690"/>
                    <a:pt x="424539" y="4163686"/>
                  </a:cubicBezTo>
                  <a:cubicBezTo>
                    <a:pt x="365067" y="3924682"/>
                    <a:pt x="68478" y="3576440"/>
                    <a:pt x="16864" y="3289663"/>
                  </a:cubicBezTo>
                  <a:cubicBezTo>
                    <a:pt x="-34750" y="3002886"/>
                    <a:pt x="41910" y="2613423"/>
                    <a:pt x="114855" y="2443025"/>
                  </a:cubicBezTo>
                  <a:cubicBezTo>
                    <a:pt x="187800" y="2272627"/>
                    <a:pt x="352867" y="2308397"/>
                    <a:pt x="454534" y="2267273"/>
                  </a:cubicBezTo>
                  <a:cubicBezTo>
                    <a:pt x="556201" y="2226149"/>
                    <a:pt x="655010" y="2249019"/>
                    <a:pt x="724854" y="2196281"/>
                  </a:cubicBezTo>
                  <a:cubicBezTo>
                    <a:pt x="794698" y="2143544"/>
                    <a:pt x="787959" y="2002485"/>
                    <a:pt x="873600" y="1950848"/>
                  </a:cubicBezTo>
                  <a:cubicBezTo>
                    <a:pt x="959241" y="1899211"/>
                    <a:pt x="1163338" y="2042335"/>
                    <a:pt x="1238703" y="1886461"/>
                  </a:cubicBezTo>
                  <a:cubicBezTo>
                    <a:pt x="1314068" y="1730587"/>
                    <a:pt x="1287083" y="1322823"/>
                    <a:pt x="1325788" y="1015604"/>
                  </a:cubicBezTo>
                  <a:cubicBezTo>
                    <a:pt x="1364493" y="708385"/>
                    <a:pt x="1405617" y="176195"/>
                    <a:pt x="1470931" y="43147"/>
                  </a:cubicBezTo>
                  <a:cubicBezTo>
                    <a:pt x="1536245" y="-89901"/>
                    <a:pt x="1669292" y="118136"/>
                    <a:pt x="1717673" y="217317"/>
                  </a:cubicBezTo>
                  <a:cubicBezTo>
                    <a:pt x="1766054" y="316498"/>
                    <a:pt x="1758798" y="454384"/>
                    <a:pt x="1761217" y="638232"/>
                  </a:cubicBezTo>
                  <a:cubicBezTo>
                    <a:pt x="1763636" y="822080"/>
                    <a:pt x="1739446" y="1061566"/>
                    <a:pt x="1732189" y="1320404"/>
                  </a:cubicBezTo>
                  <a:cubicBezTo>
                    <a:pt x="1724932" y="1579242"/>
                    <a:pt x="1710418" y="1961452"/>
                    <a:pt x="1717675" y="2191261"/>
                  </a:cubicBezTo>
                  <a:cubicBezTo>
                    <a:pt x="1724932" y="2421070"/>
                    <a:pt x="1703161" y="2575890"/>
                    <a:pt x="1775732" y="2699261"/>
                  </a:cubicBezTo>
                  <a:cubicBezTo>
                    <a:pt x="1848303" y="2822632"/>
                    <a:pt x="2016518" y="2915280"/>
                    <a:pt x="2153103" y="2931489"/>
                  </a:cubicBezTo>
                  <a:cubicBezTo>
                    <a:pt x="2289688" y="2947698"/>
                    <a:pt x="2476383" y="2838119"/>
                    <a:pt x="2595245" y="2796518"/>
                  </a:cubicBezTo>
                  <a:cubicBezTo>
                    <a:pt x="2714107" y="2754917"/>
                    <a:pt x="2787468" y="2708814"/>
                    <a:pt x="2866276" y="2681885"/>
                  </a:cubicBezTo>
                  <a:cubicBezTo>
                    <a:pt x="2945084" y="2654956"/>
                    <a:pt x="3005381" y="2628408"/>
                    <a:pt x="3068095" y="2634941"/>
                  </a:cubicBezTo>
                  <a:cubicBezTo>
                    <a:pt x="3130809" y="2641474"/>
                    <a:pt x="3267625" y="2659793"/>
                    <a:pt x="3329845" y="2707655"/>
                  </a:cubicBezTo>
                  <a:cubicBezTo>
                    <a:pt x="3392065" y="2755517"/>
                    <a:pt x="3486079" y="2857949"/>
                    <a:pt x="3441418" y="2922112"/>
                  </a:cubicBezTo>
                  <a:cubicBezTo>
                    <a:pt x="3396757" y="2986275"/>
                    <a:pt x="3213734" y="3010663"/>
                    <a:pt x="3061877" y="3092630"/>
                  </a:cubicBezTo>
                  <a:cubicBezTo>
                    <a:pt x="2910020" y="3174597"/>
                    <a:pt x="2685491" y="3270684"/>
                    <a:pt x="2530277" y="3413917"/>
                  </a:cubicBezTo>
                  <a:cubicBezTo>
                    <a:pt x="2375063" y="3557151"/>
                    <a:pt x="2254238" y="3820087"/>
                    <a:pt x="2130591" y="3952031"/>
                  </a:cubicBezTo>
                  <a:cubicBezTo>
                    <a:pt x="2006945" y="4083975"/>
                    <a:pt x="1870837" y="4142079"/>
                    <a:pt x="1788398" y="4205582"/>
                  </a:cubicBezTo>
                  <a:cubicBezTo>
                    <a:pt x="1705959" y="4269085"/>
                    <a:pt x="1670664" y="4284140"/>
                    <a:pt x="1635955" y="4333048"/>
                  </a:cubicBezTo>
                  <a:cubicBezTo>
                    <a:pt x="1601246" y="4381956"/>
                    <a:pt x="1606754" y="4465166"/>
                    <a:pt x="1580144" y="4499032"/>
                  </a:cubicBezTo>
                  <a:cubicBezTo>
                    <a:pt x="1553534" y="4532898"/>
                    <a:pt x="1568351" y="4717293"/>
                    <a:pt x="1568351" y="4717293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フリーフォーム 13"/>
            <p:cNvSpPr/>
            <p:nvPr/>
          </p:nvSpPr>
          <p:spPr>
            <a:xfrm flipH="1" rot="18888600">
              <a:off x="6456600" y="3245400"/>
              <a:ext cx="663120" cy="506160"/>
            </a:xfrm>
            <a:custGeom>
              <a:avLst/>
              <a:gdLst/>
              <a:ahLst/>
              <a:rect l="l" t="t" r="r" b="b"/>
              <a:pathLst>
                <a:path w="1372945" h="1264450">
                  <a:moveTo>
                    <a:pt x="0" y="763794"/>
                  </a:moveTo>
                  <a:cubicBezTo>
                    <a:pt x="140305" y="681546"/>
                    <a:pt x="434444" y="410886"/>
                    <a:pt x="574749" y="328638"/>
                  </a:cubicBezTo>
                  <a:cubicBezTo>
                    <a:pt x="686025" y="260905"/>
                    <a:pt x="920597" y="201795"/>
                    <a:pt x="1053630" y="147398"/>
                  </a:cubicBezTo>
                  <a:cubicBezTo>
                    <a:pt x="1186663" y="93001"/>
                    <a:pt x="1319726" y="-17097"/>
                    <a:pt x="1372945" y="2255"/>
                  </a:cubicBezTo>
                  <a:cubicBezTo>
                    <a:pt x="1426164" y="21607"/>
                    <a:pt x="1426164" y="171588"/>
                    <a:pt x="1372945" y="263512"/>
                  </a:cubicBezTo>
                  <a:cubicBezTo>
                    <a:pt x="1319726" y="355436"/>
                    <a:pt x="1175928" y="466337"/>
                    <a:pt x="1053630" y="553798"/>
                  </a:cubicBezTo>
                  <a:cubicBezTo>
                    <a:pt x="931332" y="641259"/>
                    <a:pt x="743174" y="693936"/>
                    <a:pt x="639155" y="788279"/>
                  </a:cubicBezTo>
                  <a:cubicBezTo>
                    <a:pt x="535136" y="882622"/>
                    <a:pt x="250233" y="1166479"/>
                    <a:pt x="207900" y="1264450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フリーフォーム 13"/>
            <p:cNvSpPr/>
            <p:nvPr/>
          </p:nvSpPr>
          <p:spPr>
            <a:xfrm flipH="1" rot="18888600">
              <a:off x="6676920" y="3502440"/>
              <a:ext cx="672120" cy="406080"/>
            </a:xfrm>
            <a:custGeom>
              <a:avLst/>
              <a:gdLst/>
              <a:ahLst/>
              <a:rect l="l" t="t" r="r" b="b"/>
              <a:pathLst>
                <a:path w="1392234" h="1013226">
                  <a:moveTo>
                    <a:pt x="74203" y="368192"/>
                  </a:moveTo>
                  <a:cubicBezTo>
                    <a:pt x="214508" y="285944"/>
                    <a:pt x="516772" y="118974"/>
                    <a:pt x="657077" y="36726"/>
                  </a:cubicBezTo>
                  <a:cubicBezTo>
                    <a:pt x="768353" y="-31007"/>
                    <a:pt x="745982" y="-2617"/>
                    <a:pt x="854660" y="101818"/>
                  </a:cubicBezTo>
                  <a:cubicBezTo>
                    <a:pt x="963338" y="206253"/>
                    <a:pt x="1222915" y="513676"/>
                    <a:pt x="1309144" y="663334"/>
                  </a:cubicBezTo>
                  <a:cubicBezTo>
                    <a:pt x="1395373" y="812992"/>
                    <a:pt x="1411040" y="959765"/>
                    <a:pt x="1372033" y="999767"/>
                  </a:cubicBezTo>
                  <a:cubicBezTo>
                    <a:pt x="1333026" y="1039770"/>
                    <a:pt x="1203106" y="985596"/>
                    <a:pt x="1075103" y="903349"/>
                  </a:cubicBezTo>
                  <a:cubicBezTo>
                    <a:pt x="947100" y="821102"/>
                    <a:pt x="708034" y="411942"/>
                    <a:pt x="604015" y="506285"/>
                  </a:cubicBezTo>
                  <a:cubicBezTo>
                    <a:pt x="499996" y="600628"/>
                    <a:pt x="42333" y="734321"/>
                    <a:pt x="0" y="832292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フリーフォーム 13"/>
            <p:cNvSpPr/>
            <p:nvPr/>
          </p:nvSpPr>
          <p:spPr>
            <a:xfrm flipH="1" rot="18888600">
              <a:off x="6881760" y="3575880"/>
              <a:ext cx="585360" cy="326520"/>
            </a:xfrm>
            <a:custGeom>
              <a:avLst/>
              <a:gdLst/>
              <a:ahLst/>
              <a:rect l="l" t="t" r="r" b="b"/>
              <a:pathLst>
                <a:path w="1212628" h="815451">
                  <a:moveTo>
                    <a:pt x="0" y="359052"/>
                  </a:moveTo>
                  <a:cubicBezTo>
                    <a:pt x="140305" y="276804"/>
                    <a:pt x="442569" y="109834"/>
                    <a:pt x="582874" y="27586"/>
                  </a:cubicBezTo>
                  <a:cubicBezTo>
                    <a:pt x="694150" y="-40147"/>
                    <a:pt x="701927" y="30553"/>
                    <a:pt x="780457" y="92678"/>
                  </a:cubicBezTo>
                  <a:cubicBezTo>
                    <a:pt x="858987" y="154803"/>
                    <a:pt x="982292" y="286766"/>
                    <a:pt x="1054056" y="400337"/>
                  </a:cubicBezTo>
                  <a:cubicBezTo>
                    <a:pt x="1125820" y="513908"/>
                    <a:pt x="1226486" y="712196"/>
                    <a:pt x="1211043" y="774105"/>
                  </a:cubicBezTo>
                  <a:cubicBezTo>
                    <a:pt x="1195600" y="836014"/>
                    <a:pt x="1068421" y="822691"/>
                    <a:pt x="961396" y="771789"/>
                  </a:cubicBezTo>
                  <a:cubicBezTo>
                    <a:pt x="854372" y="720887"/>
                    <a:pt x="672915" y="374351"/>
                    <a:pt x="568896" y="468694"/>
                  </a:cubicBezTo>
                  <a:cubicBezTo>
                    <a:pt x="464877" y="563037"/>
                    <a:pt x="312415" y="591751"/>
                    <a:pt x="270082" y="689722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0" name="正方形/長方形 23"/>
          <p:cNvSpPr/>
          <p:nvPr/>
        </p:nvSpPr>
        <p:spPr>
          <a:xfrm>
            <a:off x="5844240" y="34988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正方形/長方形 24"/>
          <p:cNvSpPr/>
          <p:nvPr/>
        </p:nvSpPr>
        <p:spPr>
          <a:xfrm>
            <a:off x="6903360" y="2190600"/>
            <a:ext cx="3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正方形/長方形 25"/>
          <p:cNvSpPr/>
          <p:nvPr/>
        </p:nvSpPr>
        <p:spPr>
          <a:xfrm>
            <a:off x="6278400" y="30621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on Unity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回転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540600" y="1216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左回り（反時計回り）で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正方形/長方形 16"/>
          <p:cNvSpPr/>
          <p:nvPr/>
        </p:nvSpPr>
        <p:spPr>
          <a:xfrm>
            <a:off x="2339280" y="490536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正方形/長方形 21"/>
          <p:cNvSpPr/>
          <p:nvPr/>
        </p:nvSpPr>
        <p:spPr>
          <a:xfrm>
            <a:off x="5020920" y="2558880"/>
            <a:ext cx="3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正方形/長方形 22"/>
          <p:cNvSpPr/>
          <p:nvPr/>
        </p:nvSpPr>
        <p:spPr>
          <a:xfrm>
            <a:off x="3591360" y="61387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円/楕円 1"/>
          <p:cNvSpPr/>
          <p:nvPr/>
        </p:nvSpPr>
        <p:spPr>
          <a:xfrm>
            <a:off x="4954680" y="3544920"/>
            <a:ext cx="914400" cy="4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正方形/長方形 2"/>
          <p:cNvSpPr/>
          <p:nvPr/>
        </p:nvSpPr>
        <p:spPr>
          <a:xfrm>
            <a:off x="5214960" y="3421080"/>
            <a:ext cx="3668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二等辺三角形 3"/>
          <p:cNvSpPr/>
          <p:nvPr/>
        </p:nvSpPr>
        <p:spPr>
          <a:xfrm rot="4003800">
            <a:off x="5114880" y="3466800"/>
            <a:ext cx="123480" cy="222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1" name="直線矢印コネクタ 4"/>
          <p:cNvCxnSpPr/>
          <p:nvPr/>
        </p:nvCxnSpPr>
        <p:spPr>
          <a:xfrm flipV="1">
            <a:off x="5411520" y="2999880"/>
            <a:ext cx="1080" cy="22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2" name="円/楕円 26"/>
          <p:cNvSpPr/>
          <p:nvPr/>
        </p:nvSpPr>
        <p:spPr>
          <a:xfrm>
            <a:off x="4303800" y="5477040"/>
            <a:ext cx="747720" cy="723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正方形/長方形 27"/>
          <p:cNvSpPr/>
          <p:nvPr/>
        </p:nvSpPr>
        <p:spPr>
          <a:xfrm>
            <a:off x="4246560" y="5891040"/>
            <a:ext cx="299880" cy="38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円/楕円 30"/>
          <p:cNvSpPr/>
          <p:nvPr/>
        </p:nvSpPr>
        <p:spPr>
          <a:xfrm rot="5400000">
            <a:off x="3141720" y="4994280"/>
            <a:ext cx="914400" cy="46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正方形/長方形 31"/>
          <p:cNvSpPr/>
          <p:nvPr/>
        </p:nvSpPr>
        <p:spPr>
          <a:xfrm rot="5400000">
            <a:off x="3614400" y="5057640"/>
            <a:ext cx="36828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二等辺三角形 32"/>
          <p:cNvSpPr/>
          <p:nvPr/>
        </p:nvSpPr>
        <p:spPr>
          <a:xfrm rot="1142400">
            <a:off x="3755520" y="5308560"/>
            <a:ext cx="12384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7" name="直線矢印コネクタ 6"/>
          <p:cNvCxnSpPr/>
          <p:nvPr/>
        </p:nvCxnSpPr>
        <p:spPr>
          <a:xfrm flipH="1">
            <a:off x="2788920" y="5265360"/>
            <a:ext cx="2622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8" name="二等辺三角形 33"/>
          <p:cNvSpPr/>
          <p:nvPr/>
        </p:nvSpPr>
        <p:spPr>
          <a:xfrm rot="16492800">
            <a:off x="4499640" y="6083640"/>
            <a:ext cx="122400" cy="222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9" name="直線矢印コネクタ 8"/>
          <p:cNvCxnSpPr/>
          <p:nvPr/>
        </p:nvCxnSpPr>
        <p:spPr>
          <a:xfrm flipH="1">
            <a:off x="4028400" y="5265720"/>
            <a:ext cx="1383480" cy="10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0" name="正方形/長方形 34"/>
          <p:cNvSpPr/>
          <p:nvPr/>
        </p:nvSpPr>
        <p:spPr>
          <a:xfrm>
            <a:off x="2772720" y="2898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正の方向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直線コネクタ 14"/>
          <p:cNvSpPr/>
          <p:nvPr/>
        </p:nvSpPr>
        <p:spPr>
          <a:xfrm>
            <a:off x="3773520" y="3098880"/>
            <a:ext cx="1071360" cy="47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チュートリアル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90480" y="2141640"/>
            <a:ext cx="769932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これ以降は、実際に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TVM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入力して、再生して試す、チュートリアルです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これは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TvmlSDK1.2.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付属す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TVML Playe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行ってください。あるいは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http://tvmllab.co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ダウンロードページか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TVML Player Ver1.2.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ダウンロードして、それを使ってください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T2V Builde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はところどころ動きません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カメ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478440" y="2773440"/>
            <a:ext cx="85842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ra:position(name=CamA, x=0.0, y=1.0, z=2.0, ry=18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ra:switch(name=Cam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25520" y="14288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下を入力してくださ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1:08:34Z</dcterms:created>
  <dc:creator/>
  <dc:description/>
  <dc:language>en-US</dc:language>
  <cp:lastModifiedBy>hayasim77@gmail.com</cp:lastModifiedBy>
  <dcterms:modified xsi:type="dcterms:W3CDTF">2016-04-06T18:39:42Z</dcterms:modified>
  <cp:revision>224</cp:revision>
  <dc:subject/>
  <dc:title>T2V SDK について</dc:title>
</cp:coreProperties>
</file>